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408-F5E7-4C76-ABAD-29E1B242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4B2-72E2-4510-8250-A4C50EBC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24E-8205-4B7C-8AA4-93686C04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222-3608-46D7-93AF-CB65DD43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1FC-CE73-4252-ACAA-BDF74F9F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342-1EB0-4765-964B-3FFD585B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246-15EC-40E5-AF68-8E4FD1CF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040-2A03-4C9F-8102-D801386E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7F4-8C41-4662-9521-DFEED2CA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23B-842B-4195-A0F8-4529E173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0F8-3725-4778-9079-99899FE3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3E1-A4BF-488E-A49C-02DEF4E5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576-294F-491A-87B2-4B4280C9D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438280"/>
            <a:ext cx="699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7160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5790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2510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1066680" y="12952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838080" y="685800"/>
            <a:ext cx="7162920" cy="42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59129" t="52668" r="26000" b="41700"/>
          <a:stretch/>
        </p:blipFill>
        <p:spPr>
          <a:xfrm>
            <a:off x="3048120" y="5105520"/>
            <a:ext cx="259056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59252" t="52668" r="26000" b="41334"/>
          <a:stretch/>
        </p:blipFill>
        <p:spPr>
          <a:xfrm>
            <a:off x="2819520" y="4572000"/>
            <a:ext cx="35049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58864" t="53556" r="24730" b="42002"/>
          <a:stretch/>
        </p:blipFill>
        <p:spPr>
          <a:xfrm>
            <a:off x="2971800" y="5105520"/>
            <a:ext cx="320040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143000" y="3809880"/>
            <a:ext cx="6858000" cy="533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29400" y="40384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6705360" cy="49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76920" y="3657600"/>
            <a:ext cx="2209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523880" y="1600200"/>
            <a:ext cx="5943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219320" y="29718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219320" y="30492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33526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51004" t="47338" r="4001" b="23335"/>
          <a:stretch/>
        </p:blipFill>
        <p:spPr>
          <a:xfrm>
            <a:off x="1295280" y="3657600"/>
            <a:ext cx="67057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495680" y="2819520"/>
            <a:ext cx="2590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971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1722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600200" y="167652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4479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65120"/>
            <a:ext cx="60958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2193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19320"/>
            <a:ext cx="63244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2193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30T19:01:19Z</dcterms:modified>
  <cp:revision>220</cp:revision>
  <dc:subject/>
  <dc:title>Slide 1</dc:title>
</cp:coreProperties>
</file>